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610350" cy="8686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609600" cy="868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863800" cy="4348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6"/>
          </p:nvPr>
        </p:nvSpPr>
        <p:spPr>
          <a:xfrm>
            <a:off x="3742920" y="0"/>
            <a:ext cx="2863800" cy="4348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31480" y="650520"/>
            <a:ext cx="4343400" cy="325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ndara"/>
              </a:rPr>
              <a:t>Click to move the slide</a:t>
            </a: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59880" y="4125600"/>
            <a:ext cx="5288040" cy="390996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7"/>
          </p:nvPr>
        </p:nvSpPr>
        <p:spPr>
          <a:xfrm>
            <a:off x="-360" y="8249760"/>
            <a:ext cx="2863800" cy="43524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8"/>
          </p:nvPr>
        </p:nvSpPr>
        <p:spPr>
          <a:xfrm>
            <a:off x="3742920" y="8249760"/>
            <a:ext cx="2863800" cy="43524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  <a:defRPr b="0" lang="sr-Latn-C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fld id="{441BA4D7-2FF6-47B8-BF4B-A07E637786DE}" type="slidenum">
              <a:rPr b="0" lang="sr-Latn-C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743280" y="8250120"/>
            <a:ext cx="286380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fld id="{C32910BC-5B1A-4CAC-A97A-560861D91B9B}" type="slidenum">
              <a:rPr b="0" lang="sr-Latn-C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3184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59880" y="4125600"/>
            <a:ext cx="528804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743280" y="8250120"/>
            <a:ext cx="286380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fld id="{7A6EDEB8-E9E9-40AD-AEFE-8D2EBC34F370}" type="slidenum">
              <a:rPr b="0" lang="sr-Latn-C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3184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59880" y="4125600"/>
            <a:ext cx="528804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743280" y="8250120"/>
            <a:ext cx="286380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fld id="{BCBB97EF-BA86-40E5-B683-BAACEEA7A592}" type="slidenum">
              <a:rPr b="0" lang="sr-Latn-C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3184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59880" y="4125600"/>
            <a:ext cx="528804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C3BB07-9A58-45F1-948A-103602BA66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764192-0CE9-48E3-A426-12BF74F4CD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83E9B0-1BE7-4C6F-AE59-E1295194D3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A92EEE-7014-4EC0-AE1B-28900C015E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8C89A4-32FA-4849-A3F6-61C1A061F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92B79B-3E8D-41F3-A5DC-48A53A037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06872C-6E72-40CA-9B16-91E94ABA5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47E7C8-0970-4913-94C7-29C392A8E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22B942-A578-475E-AED1-88E82890D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821844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56CB14-C865-4366-A772-0A2569DCD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0F3CCC-67B9-4B6F-A584-F22286A91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172774-E406-4E47-AD6A-1E723F623E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A61038-649F-4D70-A501-E3A61ABD7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623CC5-4E7F-429D-8AE6-834EB0890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04432A-F3E1-428A-BE53-658A41D67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A7044D-F33C-4A40-90BE-55A6BC69D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05453F-792E-4E05-BD3D-F135A3131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9AC584-248B-4A80-BEC4-A63600D26B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18B010-9A0C-4F3E-BA76-1D548B4E0E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D95E3E-0361-4522-82F9-DCC25A3DC4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821844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0361CB-58FB-4241-9824-D77B26893D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036847-BFE1-4642-BED5-8D72977B60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F315CD-4B8C-4D60-B33D-14E398E18D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964BBE-91CB-4C31-B7A9-EE877ACC0B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ndara"/>
              </a:rPr>
              <a:t>Click to edit the title text format</a:t>
            </a: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lvl="1" marL="692280" indent="-34776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lvl="2" marL="987480" indent="-29376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lvl="3" marL="1281240" indent="-29232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lvl="4" marL="1598760" indent="-31608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8FA09-1068-47F7-BC09-B4F641FB8EF9}" type="slidenum">
              <a:rPr b="0" lang="sr-Latn-C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40"/>
          <p:cNvSpPr/>
          <p:nvPr/>
        </p:nvSpPr>
        <p:spPr>
          <a:xfrm>
            <a:off x="395280" y="1341360"/>
            <a:ext cx="8352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" name="Line 41"/>
          <p:cNvSpPr/>
          <p:nvPr/>
        </p:nvSpPr>
        <p:spPr>
          <a:xfrm>
            <a:off x="6084720" y="6597720"/>
            <a:ext cx="2737080" cy="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" name="Line 42"/>
          <p:cNvSpPr/>
          <p:nvPr/>
        </p:nvSpPr>
        <p:spPr>
          <a:xfrm>
            <a:off x="8820000" y="5877000"/>
            <a:ext cx="0" cy="7207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" name="Line 43"/>
          <p:cNvSpPr/>
          <p:nvPr/>
        </p:nvSpPr>
        <p:spPr>
          <a:xfrm>
            <a:off x="4572000" y="260280"/>
            <a:ext cx="4176720" cy="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2" descr=""/>
          <p:cNvPicPr/>
          <p:nvPr/>
        </p:nvPicPr>
        <p:blipFill>
          <a:blip r:embed="rId2"/>
          <a:stretch/>
        </p:blipFill>
        <p:spPr>
          <a:xfrm>
            <a:off x="1979640" y="68400"/>
            <a:ext cx="5040360" cy="11998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ndara"/>
              </a:rPr>
              <a:t>Click to edit the title text format</a:t>
            </a: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lvl="1" marL="692280" indent="-34776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lvl="2" marL="987480" indent="-29376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lvl="3" marL="1281240" indent="-29232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lvl="4" marL="1598760" indent="-31608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C7F53-5C4E-47C6-8F9A-73F52686C02E}" type="slidenum">
              <a:rPr b="0" lang="sr-Latn-C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8280" y="1412640"/>
            <a:ext cx="8217000" cy="136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ndara"/>
              </a:rPr>
              <a:t>Интегрисане академске студије фармације</a:t>
            </a:r>
            <a:br>
              <a:rPr sz="2400"/>
            </a:br>
            <a:r>
              <a:rPr b="1" lang="sr-RS" sz="2400" spc="-1" strike="noStrike">
                <a:solidFill>
                  <a:srgbClr val="000000"/>
                </a:solidFill>
                <a:latin typeface="Candara"/>
              </a:rPr>
              <a:t>В18 </a:t>
            </a:r>
            <a:r>
              <a:rPr b="1" lang="sr-CS" sz="2400" spc="-1" strike="noStrike">
                <a:solidFill>
                  <a:srgbClr val="000000"/>
                </a:solidFill>
                <a:latin typeface="Candara"/>
              </a:rPr>
              <a:t>ФАРМАКОЛОГИЈА </a:t>
            </a:r>
            <a:r>
              <a:rPr b="1" lang="en-US" sz="2400" spc="-1" strike="noStrike">
                <a:solidFill>
                  <a:srgbClr val="000000"/>
                </a:solidFill>
                <a:latin typeface="Candara"/>
              </a:rPr>
              <a:t>2 </a:t>
            </a: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50560" y="2500200"/>
            <a:ext cx="8607240" cy="282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ndara"/>
              </a:rPr>
              <a:t>ЛАКСАНСИ И АНТИДИЈАРОИЦИ 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ndara"/>
              </a:rPr>
              <a:t>ФАРМАКОТЕРАПИЈА ИНФЛАМАТОРНИХ БОЛЕСТИ ЦРЕВА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ndara"/>
              </a:rPr>
              <a:t>3. недеља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ndara"/>
              </a:rPr>
              <a:t>Проф</a:t>
            </a:r>
            <a:r>
              <a:rPr b="1" lang="sr-CS" sz="2400" spc="-1" strike="noStrike">
                <a:solidFill>
                  <a:srgbClr val="000000"/>
                </a:solidFill>
                <a:latin typeface="Candara"/>
              </a:rPr>
              <a:t>. др Марко Фолић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35344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ndara"/>
              </a:rPr>
              <a:t>Антидијароици </a:t>
            </a:r>
            <a:endParaRPr b="1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95280" y="1628640"/>
            <a:ext cx="842472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ndara"/>
              </a:rPr>
              <a:t>Дијареја - учестало избацивање течних столица 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ndara"/>
              </a:rPr>
              <a:t>Узрочници: инфективни агенси, токсини, анксиозност, лекови...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ndara"/>
              </a:rPr>
              <a:t>Примарни аспекти: надокнада изгубљене воде и електролита оралним путем (ако болесник не повраћа) или интравенским инфузијама. 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 lvl="2" marL="1251000" indent="-250920">
              <a:spcBef>
                <a:spcPts val="451"/>
              </a:spcBef>
              <a:buClr>
                <a:srgbClr val="000000"/>
              </a:buClr>
              <a:buFont typeface="Candar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ndara"/>
              </a:rPr>
              <a:t>Орално</a:t>
            </a:r>
            <a:r>
              <a:rPr b="0" lang="sr-Latn-RS" sz="1800" spc="-1" strike="noStrike">
                <a:solidFill>
                  <a:srgbClr val="000000"/>
                </a:solidFill>
                <a:latin typeface="Candara"/>
              </a:rPr>
              <a:t>: </a:t>
            </a:r>
            <a:r>
              <a:rPr b="0" lang="sr-RS" sz="1800" spc="-1" strike="noStrike">
                <a:solidFill>
                  <a:srgbClr val="000000"/>
                </a:solidFill>
                <a:latin typeface="Candara"/>
              </a:rPr>
              <a:t>раствор натријум хлорида и глукозе, постепено, у малим дозама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ndara"/>
              </a:rPr>
              <a:t>Антибиотике треба примењивати само код дијареја проузрокованих инвазивним бактеријама које продиру у цревни зид и крвоток </a:t>
            </a:r>
            <a:r>
              <a:rPr b="0" i="1" lang="sr-RS" sz="2000" spc="-1" strike="noStrike">
                <a:solidFill>
                  <a:srgbClr val="000000"/>
                </a:solidFill>
                <a:latin typeface="Candara"/>
              </a:rPr>
              <a:t>(салмонелозе, шигелозе, </a:t>
            </a:r>
            <a:r>
              <a:rPr b="0" i="1" lang="en-US" sz="2000" spc="-1" strike="noStrike">
                <a:solidFill>
                  <a:srgbClr val="000000"/>
                </a:solidFill>
                <a:latin typeface="Candara"/>
              </a:rPr>
              <a:t>Campylobacter jejuni, Yersinia enterocolitica</a:t>
            </a:r>
            <a:r>
              <a:rPr b="0" i="1" lang="sr-RS" sz="2000" spc="-1" strike="noStrike">
                <a:solidFill>
                  <a:srgbClr val="000000"/>
                </a:solidFill>
                <a:latin typeface="Candara"/>
              </a:rPr>
              <a:t>...</a:t>
            </a:r>
            <a:r>
              <a:rPr b="0" i="1" lang="en-US" sz="2000" spc="-1" strike="noStrike">
                <a:solidFill>
                  <a:srgbClr val="000000"/>
                </a:solidFill>
                <a:latin typeface="Candara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395280" y="1557000"/>
            <a:ext cx="8424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ndara"/>
              </a:rPr>
              <a:t>Дијареје изазване неинфективним узрочником (радијациони ентеритис, малапсорпционе, диспептичне дијареје): опиоиди - лоперамид или дифеноксилат </a:t>
            </a:r>
            <a:r>
              <a:rPr b="0" i="1" lang="en-US" sz="1900" spc="-1" strike="noStrike">
                <a:solidFill>
                  <a:srgbClr val="000000"/>
                </a:solidFill>
                <a:latin typeface="Candara"/>
              </a:rPr>
              <a:t>(у дигестивном тракту стимулишу µ рецепторе и инхибирају пропулзивни мотилитет). </a:t>
            </a:r>
            <a:endParaRPr b="0" lang="en-US" sz="1900" spc="-1" strike="noStrike">
              <a:solidFill>
                <a:srgbClr val="000000"/>
              </a:solidFill>
              <a:latin typeface="Candara"/>
            </a:endParaRPr>
          </a:p>
          <a:p>
            <a:pPr lvl="1" marL="692280" indent="-347760">
              <a:spcBef>
                <a:spcPts val="4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ndara"/>
              </a:rPr>
              <a:t>Дифеноксилат се често комбинује са атропином који антимускаринским дејством додатно смањује пропулзивни мотилитет. 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ndara"/>
              </a:rPr>
              <a:t>ОПРЕЗ: Не примењивати их уколико је у питању инфекција инвазивним бактеријама; </a:t>
            </a:r>
            <a:r>
              <a:rPr b="0" i="1" lang="en-US" sz="1900" spc="-1" strike="noStrike">
                <a:solidFill>
                  <a:srgbClr val="000000"/>
                </a:solidFill>
                <a:latin typeface="Candara"/>
              </a:rPr>
              <a:t>смањује се одстрањивање проузроковача и олакшава прелазак у зид црева. </a:t>
            </a:r>
            <a:endParaRPr b="0" lang="en-US" sz="19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ndara"/>
              </a:rPr>
              <a:t>Нежељена дејства: </a:t>
            </a:r>
            <a:endParaRPr b="0" lang="en-US" sz="1900" spc="-1" strike="noStrike">
              <a:solidFill>
                <a:srgbClr val="000000"/>
              </a:solidFill>
              <a:latin typeface="Candara"/>
            </a:endParaRPr>
          </a:p>
          <a:p>
            <a:pPr lvl="1" marL="692280" indent="-347760">
              <a:spcBef>
                <a:spcPts val="476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ndara"/>
              </a:rPr>
              <a:t>Лоперамид: бол у трбуху, сувоћа уста, мучнина, опстипација</a:t>
            </a:r>
            <a:endParaRPr b="0" lang="en-US" sz="1900" spc="-1" strike="noStrike">
              <a:solidFill>
                <a:srgbClr val="000000"/>
              </a:solidFill>
              <a:latin typeface="Candara"/>
            </a:endParaRPr>
          </a:p>
          <a:p>
            <a:pPr lvl="1" marL="692280" indent="-347760">
              <a:spcBef>
                <a:spcPts val="476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ndara"/>
              </a:rPr>
              <a:t>Дифеноксилат: мучнина, свраб, ошамућеност, утрнулост екстремитета. </a:t>
            </a:r>
            <a:endParaRPr b="0" lang="en-US" sz="19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14" name="Title 1"/>
          <p:cNvSpPr/>
          <p:nvPr/>
        </p:nvSpPr>
        <p:spPr>
          <a:xfrm>
            <a:off x="395280" y="476280"/>
            <a:ext cx="835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Candara"/>
              </a:rPr>
              <a:t>Антидијароици </a:t>
            </a: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91520" cy="10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300" spc="-1" strike="noStrike">
                <a:solidFill>
                  <a:srgbClr val="000000"/>
                </a:solidFill>
                <a:latin typeface="Candara"/>
              </a:rPr>
              <a:t>Смоле</a:t>
            </a:r>
            <a:r>
              <a:rPr b="1" lang="en-US" sz="33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1" lang="sr-CS" sz="3300" spc="-1" strike="noStrike">
                <a:solidFill>
                  <a:srgbClr val="000000"/>
                </a:solidFill>
                <a:latin typeface="Candara"/>
              </a:rPr>
              <a:t>и бизмут</a:t>
            </a: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ndara"/>
              </a:rPr>
              <a:t>Холестирамин, холестипол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lvl="1" marL="692280" indent="-347760"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ndara"/>
              </a:rPr>
              <a:t>Везују жучне соли и бактеријске токсине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ndara"/>
              </a:rPr>
              <a:t>Бизмут субсалицилат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lvl="1" marL="692280" indent="-347760"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ndara"/>
              </a:rPr>
              <a:t>Комплексно дејство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lvl="2" marL="987480" indent="-293760">
              <a:spcBef>
                <a:spcPts val="451"/>
              </a:spcBef>
              <a:buClr>
                <a:srgbClr val="000000"/>
              </a:buClr>
              <a:buFont typeface="Candar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ndara"/>
              </a:rPr>
              <a:t>Антибактеријски ефекат, инхибира ефекте бактеријских токсина, повећава апсорпцију воде и електролита од стране зида црева, инхибира синтезу </a:t>
            </a:r>
            <a:r>
              <a:rPr b="0" lang="en-US" sz="1800" spc="-1" strike="noStrike">
                <a:solidFill>
                  <a:srgbClr val="000000"/>
                </a:solidFill>
                <a:latin typeface="Candara"/>
              </a:rPr>
              <a:t>простагландина...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 lvl="1" marL="692280" indent="-347760"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ndara"/>
              </a:rPr>
              <a:t>Путничка дијареја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lvl="1" marL="692280" indent="-347760"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ndara"/>
              </a:rPr>
              <a:t>Нежељена дејства: тинитус, црно обојена столица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475920"/>
            <a:ext cx="821844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ndara"/>
              </a:rPr>
              <a:t>Адсорбенси</a:t>
            </a: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ndara"/>
              </a:rPr>
              <a:t>Метилцелулоза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ndara"/>
              </a:rPr>
              <a:t>Са</a:t>
            </a:r>
            <a:r>
              <a:rPr b="0" lang="sr-CS" sz="2200" spc="-1" strike="noStrike" baseline="30000">
                <a:solidFill>
                  <a:srgbClr val="000000"/>
                </a:solidFill>
                <a:latin typeface="Candara"/>
              </a:rPr>
              <a:t>2+</a:t>
            </a:r>
            <a:r>
              <a:rPr b="0" lang="sr-CS" sz="2200" spc="-1" strike="noStrike">
                <a:solidFill>
                  <a:srgbClr val="000000"/>
                </a:solidFill>
                <a:latin typeface="Candara"/>
              </a:rPr>
              <a:t> карбофил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ndara"/>
              </a:rPr>
              <a:t>Глине (каолин)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ndara"/>
              </a:rPr>
              <a:t>Силикати (М</a:t>
            </a:r>
            <a:r>
              <a:rPr b="0" lang="sl-SI" sz="2200" spc="-1" strike="noStrike">
                <a:solidFill>
                  <a:srgbClr val="000000"/>
                </a:solidFill>
                <a:latin typeface="Candara"/>
              </a:rPr>
              <a:t>g</a:t>
            </a:r>
            <a:r>
              <a:rPr b="0" lang="en-US" sz="2200" spc="-1" strike="noStrike">
                <a:solidFill>
                  <a:srgbClr val="000000"/>
                </a:solidFill>
                <a:latin typeface="Candara"/>
              </a:rPr>
              <a:t>-</a:t>
            </a:r>
            <a:r>
              <a:rPr b="0" lang="sr-CS" sz="2200" spc="-1" strike="noStrike">
                <a:solidFill>
                  <a:srgbClr val="000000"/>
                </a:solidFill>
                <a:latin typeface="Candara"/>
              </a:rPr>
              <a:t>Аl-силикат)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ndara"/>
              </a:rPr>
              <a:t>Пектин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000" spc="-1" strike="noStrike">
                <a:solidFill>
                  <a:srgbClr val="000000"/>
                </a:solidFill>
                <a:latin typeface="Candara"/>
              </a:rPr>
              <a:t>Везују микроорганизме или токисне, формирају са водом получврсти гел, нормализују конзистенцију фецеса, мењају цревну флору...???</a:t>
            </a:r>
            <a:r>
              <a:rPr b="0" lang="sr-CS" sz="1800" spc="-1" strike="noStrike">
                <a:solidFill>
                  <a:srgbClr val="000000"/>
                </a:solidFill>
                <a:latin typeface="Candar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1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ndara"/>
              </a:rPr>
              <a:t>Постантибиотска дијареја</a:t>
            </a:r>
            <a:endParaRPr b="1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24000" y="1557360"/>
            <a:ext cx="8496000" cy="412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ndara"/>
              </a:rPr>
              <a:t>Н</a:t>
            </a: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астаје после дуже примене антибиотика широког спектра</a:t>
            </a:r>
            <a:r>
              <a:rPr b="0" lang="sr-RS" sz="2000" spc="-1" strike="noStrike">
                <a:solidFill>
                  <a:srgbClr val="000000"/>
                </a:solidFill>
                <a:latin typeface="Candara"/>
              </a:rPr>
              <a:t>, због</a:t>
            </a: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 наруш</a:t>
            </a:r>
            <a:r>
              <a:rPr b="0" lang="sr-RS" sz="2000" spc="-1" strike="noStrike">
                <a:solidFill>
                  <a:srgbClr val="000000"/>
                </a:solidFill>
                <a:latin typeface="Candara"/>
              </a:rPr>
              <a:t>авања</a:t>
            </a: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 равнотеж</a:t>
            </a:r>
            <a:r>
              <a:rPr b="0" lang="sr-RS" sz="2000" spc="-1" strike="noStrike">
                <a:solidFill>
                  <a:srgbClr val="000000"/>
                </a:solidFill>
                <a:latin typeface="Candara"/>
              </a:rPr>
              <a:t>е</a:t>
            </a: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 између бактерија у колону. 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Блажи облици</a:t>
            </a:r>
            <a:r>
              <a:rPr b="0" lang="sr-RS" sz="2000" spc="-1" strike="noStrike">
                <a:solidFill>
                  <a:srgbClr val="000000"/>
                </a:solidFill>
                <a:latin typeface="Candar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lvl="1" marL="629640" indent="-316440"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ndara"/>
              </a:rPr>
              <a:t>П</a:t>
            </a: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рекид </a:t>
            </a:r>
            <a:r>
              <a:rPr b="0" lang="sr-RS" sz="2000" spc="-1" strike="noStrike">
                <a:solidFill>
                  <a:srgbClr val="000000"/>
                </a:solidFill>
                <a:latin typeface="Candara"/>
              </a:rPr>
              <a:t>даље </a:t>
            </a: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примене антибиотика </a:t>
            </a:r>
            <a:r>
              <a:rPr b="0" lang="sr-RS" sz="2000" spc="-1" strike="noStrike">
                <a:solidFill>
                  <a:srgbClr val="000000"/>
                </a:solidFill>
                <a:latin typeface="Candara"/>
              </a:rPr>
              <a:t>+ </a:t>
            </a: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пробиотик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Тежи облици</a:t>
            </a:r>
            <a:r>
              <a:rPr b="0" lang="sr-RS" sz="2000" spc="-1" strike="noStrike">
                <a:solidFill>
                  <a:srgbClr val="000000"/>
                </a:solidFill>
                <a:latin typeface="Candar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ndara"/>
              </a:rPr>
              <a:t>Н</a:t>
            </a: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астају услед прерастања анаеробне бактерије Clostridium difficile, чији егзотоксини А и Б изазивају некрозу епитела колона и настанак псеудомембранозног колитиса. 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Уколико се</a:t>
            </a:r>
            <a:r>
              <a:rPr b="0" lang="sr-CS" sz="2000" spc="-1" strike="noStrike">
                <a:solidFill>
                  <a:srgbClr val="000000"/>
                </a:solidFill>
                <a:latin typeface="Candara"/>
              </a:rPr>
              <a:t> токсини А или Б докажу у столици: метронидазол, </a:t>
            </a:r>
            <a:r>
              <a:rPr b="0" i="1" lang="sr-Latn-RS" sz="2000" spc="-1" strike="noStrike">
                <a:solidFill>
                  <a:srgbClr val="000000"/>
                </a:solidFill>
                <a:latin typeface="Candara"/>
              </a:rPr>
              <a:t>per os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ndara"/>
              </a:rPr>
              <a:t>Изостанак излечења за 7 дана: ванкомицин, </a:t>
            </a:r>
            <a:r>
              <a:rPr b="0" lang="sr-Latn-RS" sz="2000" spc="-1" strike="noStrike">
                <a:solidFill>
                  <a:srgbClr val="000000"/>
                </a:solidFill>
                <a:latin typeface="Candara"/>
              </a:rPr>
              <a:t>per os</a:t>
            </a:r>
            <a:r>
              <a:rPr b="0" lang="sr-RS" sz="2000" spc="-1" strike="noStrike">
                <a:solidFill>
                  <a:srgbClr val="000000"/>
                </a:solidFill>
                <a:latin typeface="Candara"/>
              </a:rPr>
              <a:t>,</a:t>
            </a:r>
            <a:r>
              <a:rPr b="0" lang="sr-CS" sz="2000" spc="-1" strike="noStrike">
                <a:solidFill>
                  <a:srgbClr val="000000"/>
                </a:solidFill>
                <a:latin typeface="Candara"/>
              </a:rPr>
              <a:t> 14 дана. 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ndara"/>
              </a:rPr>
              <a:t>Одсуство тарапијског ефекта ванкомицина (у резистентним случајевима): фидаксомицин</a:t>
            </a:r>
            <a:r>
              <a:rPr b="0" lang="sr-Latn-RS" sz="2000" spc="-1" strike="noStrike">
                <a:solidFill>
                  <a:srgbClr val="000000"/>
                </a:solidFill>
                <a:latin typeface="Candara"/>
              </a:rPr>
              <a:t> (</a:t>
            </a:r>
            <a:r>
              <a:rPr b="0" lang="sr-CS" sz="2000" spc="-1" strike="noStrike">
                <a:solidFill>
                  <a:srgbClr val="000000"/>
                </a:solidFill>
                <a:latin typeface="Candara"/>
              </a:rPr>
              <a:t>не апсорбује</a:t>
            </a:r>
            <a:r>
              <a:rPr b="0" lang="sr-Latn-RS" sz="20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ndara"/>
              </a:rPr>
              <a:t>се</a:t>
            </a:r>
            <a:r>
              <a:rPr b="0" lang="sr-CS" sz="2000" spc="-1" strike="noStrike">
                <a:solidFill>
                  <a:srgbClr val="000000"/>
                </a:solidFill>
                <a:latin typeface="Candara"/>
              </a:rPr>
              <a:t> и успешно делује на Clostridium difficile).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821844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ndara"/>
              </a:rPr>
              <a:t>Улцерозни колитис и Кронова болес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ndara"/>
              </a:rPr>
              <a:t>Терапијски аспекти</a:t>
            </a:r>
            <a:endParaRPr b="1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28280"/>
            <a:ext cx="8291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Аутоимуним инфламаторна оболења зида колона и танког црева 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5-аминосалицилна киселина (5-АСА) - спречава синтезу простагландина у зиду црева. 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lvl="1" marL="678600" indent="-344160"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Месалазин (5-аминосалицилна киселина) 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lvl="1" marL="678600" indent="-344160"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Олсалазин - димер сачињен од два молекула 5-АСА-е 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lvl="1" marL="678600" indent="-344160"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Сулфасалазин - комбинација 5-АСА-е и сулфапиридина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Сви препарати се слабо апсорбују </a:t>
            </a:r>
            <a:r>
              <a:rPr b="0" i="1" lang="en-US" sz="2000" spc="-1" strike="noStrike">
                <a:solidFill>
                  <a:srgbClr val="000000"/>
                </a:solidFill>
                <a:latin typeface="Candara"/>
              </a:rPr>
              <a:t>(5-АСА доспева у колон и делује на инфламирани зид)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Нежељена дејства 5-АСА-е: главобоља, болови у трбуху, ометање апсорпције фолне киселине, дијареја и неплодност код мушкараца. 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ndara"/>
              </a:rPr>
              <a:t>Сулфапиридин из сулфасалазина се апсорбује у значајној мери и може изазавти хемолитичку анемију и кожне промене (Стивен-Џонсонов синдром). 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Балсалазид - након </a:t>
            </a:r>
            <a:r>
              <a:rPr b="0" i="1" lang="en-US" sz="2000" spc="-1" strike="noStrike">
                <a:solidFill>
                  <a:srgbClr val="000000"/>
                </a:solidFill>
                <a:latin typeface="Candara"/>
              </a:rPr>
              <a:t>per os </a:t>
            </a: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примене се не апсорбује, доспева у колон, где се под дејством бактерија разлаже на 5-АСА и инертни                             4-аминобензоил-бета-аланин. 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Примена кортикостероида (системски или у виду клизме): када више не постоји адекватна реакција на 5-АСА-у.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lvl="1" marL="692280" indent="-347760">
              <a:spcBef>
                <a:spcPts val="6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Ремисија болести (опрез: могућа озбиљна нежељена дејства)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lvl="1" marL="692280" indent="-347760">
              <a:spcBef>
                <a:spcPts val="6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Најбољи ефекат: будесонид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24" name="Title 1"/>
          <p:cNvSpPr/>
          <p:nvPr/>
        </p:nvSpPr>
        <p:spPr>
          <a:xfrm>
            <a:off x="457200" y="333360"/>
            <a:ext cx="82184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sr-RS" sz="2800" spc="-1" strike="noStrike">
                <a:solidFill>
                  <a:srgbClr val="000000"/>
                </a:solidFill>
                <a:latin typeface="Candara"/>
              </a:rPr>
              <a:t>Улцерозни колитис и Кронова болест</a:t>
            </a:r>
            <a:br>
              <a:rPr sz="2800"/>
            </a:br>
            <a:r>
              <a:rPr b="1" lang="sr-RS" sz="2800" spc="-1" strike="noStrike">
                <a:solidFill>
                  <a:srgbClr val="000000"/>
                </a:solidFill>
                <a:latin typeface="Candara"/>
              </a:rPr>
              <a:t>Терапијски аспекти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404640"/>
            <a:ext cx="8218440" cy="93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ndara"/>
              </a:rPr>
              <a:t>Биолошка терапија</a:t>
            </a:r>
            <a:endParaRPr b="1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ndara"/>
              </a:rPr>
              <a:t>Код тежих облика Кронове болести: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ndara"/>
              </a:rPr>
              <a:t>Инфликсимаб 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ndara"/>
              </a:rPr>
              <a:t>Н</a:t>
            </a: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атализумаб 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ndara"/>
              </a:rPr>
              <a:t>А</a:t>
            </a: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далимумаб 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ndara"/>
              </a:rPr>
              <a:t>Ц</a:t>
            </a: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ертолизумаб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ndara"/>
              </a:rPr>
              <a:t>Опрез: О</a:t>
            </a: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пасност од настанка озбиљних инфекција</a:t>
            </a:r>
            <a:r>
              <a:rPr b="0" lang="sr-RS" sz="2000" spc="-1" strike="noStrike">
                <a:solidFill>
                  <a:srgbClr val="000000"/>
                </a:solidFill>
                <a:latin typeface="Candara"/>
              </a:rPr>
              <a:t> (имуносупресивни ефекат лека) и повећан ризик од појаве лимфома (инфликсимаб) односно других малигних  болести.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821844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ndara"/>
              </a:rPr>
              <a:t>Опстипацијa</a:t>
            </a:r>
            <a:endParaRPr b="1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95280" y="1484280"/>
            <a:ext cx="829152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00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ndara"/>
              </a:rPr>
              <a:t>Разноликост</a:t>
            </a:r>
            <a:r>
              <a:rPr b="0" lang="sr-Latn-RS" sz="22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ndara"/>
              </a:rPr>
              <a:t>дефиниција...</a:t>
            </a:r>
            <a:r>
              <a:rPr b="0" lang="sr-Latn-RS" sz="2200" spc="-1" strike="noStrike">
                <a:solidFill>
                  <a:srgbClr val="000000"/>
                </a:solidFill>
                <a:latin typeface="Candar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lvl="1" marL="685800" indent="-358560">
              <a:spcBef>
                <a:spcPts val="400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ndara"/>
              </a:rPr>
              <a:t>Изостанак</a:t>
            </a: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ndara"/>
              </a:rPr>
              <a:t>спонтане</a:t>
            </a: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ndara"/>
              </a:rPr>
              <a:t>столице</a:t>
            </a: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ndara"/>
              </a:rPr>
              <a:t>дуже</a:t>
            </a: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ndara"/>
              </a:rPr>
              <a:t>од</a:t>
            </a: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 48 </a:t>
            </a:r>
            <a:r>
              <a:rPr b="0" lang="sr-RS" sz="2000" spc="-1" strike="noStrike">
                <a:solidFill>
                  <a:srgbClr val="000000"/>
                </a:solidFill>
                <a:latin typeface="Candara"/>
              </a:rPr>
              <a:t>до</a:t>
            </a: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 72 </a:t>
            </a:r>
            <a:r>
              <a:rPr b="0" lang="sr-RS" sz="2000" spc="-1" strike="noStrike">
                <a:solidFill>
                  <a:srgbClr val="000000"/>
                </a:solidFill>
                <a:latin typeface="Candara"/>
              </a:rPr>
              <a:t>часа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325800" indent="-325800">
              <a:spcBef>
                <a:spcPts val="400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ndara"/>
              </a:rPr>
              <a:t>Потенцијални узроци</a:t>
            </a:r>
            <a:r>
              <a:rPr b="0" lang="sr-Latn-RS" sz="2200" spc="-1" strike="noStrike">
                <a:solidFill>
                  <a:srgbClr val="000000"/>
                </a:solidFill>
                <a:latin typeface="Candara"/>
              </a:rPr>
              <a:t>:</a:t>
            </a:r>
            <a:r>
              <a:rPr b="0" lang="sr-RS" sz="2200" spc="-1" strike="noStrike">
                <a:solidFill>
                  <a:srgbClr val="000000"/>
                </a:solidFill>
                <a:latin typeface="Candar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marL="325800" indent="-325800">
              <a:spcBef>
                <a:spcPts val="400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ndara"/>
              </a:rPr>
              <a:t>Психошки</a:t>
            </a:r>
            <a:r>
              <a:rPr b="0" lang="sr-Latn-RS" sz="20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ndara"/>
              </a:rPr>
              <a:t>аспекти</a:t>
            </a:r>
            <a:r>
              <a:rPr b="0" lang="sr-Latn-RS" sz="20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ndara"/>
              </a:rPr>
              <a:t>(сузбијање рефлекса дефекације због страха, стида и слично) 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325800" indent="-325800">
              <a:spcBef>
                <a:spcPts val="400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ndara"/>
              </a:rPr>
              <a:t>Неправилна исхрана (недовољно течности, храна са мало остатака)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325800" indent="-325800">
              <a:spcBef>
                <a:spcPts val="400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ndara"/>
              </a:rPr>
              <a:t>Урођене</a:t>
            </a:r>
            <a:r>
              <a:rPr b="0" lang="vi-VN" sz="20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ndara"/>
              </a:rPr>
              <a:t>и</a:t>
            </a:r>
            <a:r>
              <a:rPr b="0" lang="sr-Latn-RS" sz="2000" spc="-1" strike="noStrike">
                <a:solidFill>
                  <a:srgbClr val="000000"/>
                </a:solidFill>
                <a:latin typeface="Candara"/>
              </a:rPr>
              <a:t>/</a:t>
            </a:r>
            <a:r>
              <a:rPr b="0" lang="sr-RS" sz="2000" spc="-1" strike="noStrike">
                <a:solidFill>
                  <a:srgbClr val="000000"/>
                </a:solidFill>
                <a:latin typeface="Candara"/>
              </a:rPr>
              <a:t>или</a:t>
            </a:r>
            <a:r>
              <a:rPr b="0" lang="vi-VN" sz="20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ndara"/>
              </a:rPr>
              <a:t>стечене малформације</a:t>
            </a:r>
            <a:r>
              <a:rPr b="0" lang="sr-Latn-RS" sz="20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ndara"/>
              </a:rPr>
              <a:t>и</a:t>
            </a:r>
            <a:r>
              <a:rPr b="0" lang="vi-VN" sz="20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ndara"/>
              </a:rPr>
              <a:t>обољења</a:t>
            </a:r>
            <a:r>
              <a:rPr b="0" lang="vi-VN" sz="20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ndara"/>
              </a:rPr>
              <a:t>црева</a:t>
            </a:r>
            <a:r>
              <a:rPr b="0" lang="vi-VN" sz="2000" spc="-1" strike="noStrike">
                <a:solidFill>
                  <a:srgbClr val="000000"/>
                </a:solidFill>
                <a:latin typeface="Candara"/>
              </a:rPr>
              <a:t>: </a:t>
            </a:r>
            <a:r>
              <a:rPr b="0" lang="sr-RS" sz="2000" spc="-1" strike="noStrike">
                <a:solidFill>
                  <a:srgbClr val="000000"/>
                </a:solidFill>
                <a:latin typeface="Candara"/>
              </a:rPr>
              <a:t>иритабилни</a:t>
            </a:r>
            <a:r>
              <a:rPr b="0" lang="vi-VN" sz="20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ndara"/>
              </a:rPr>
              <a:t>колон</a:t>
            </a:r>
            <a:r>
              <a:rPr b="0" lang="sr-Latn-RS" sz="2000" spc="-1" strike="noStrike">
                <a:solidFill>
                  <a:srgbClr val="000000"/>
                </a:solidFill>
                <a:latin typeface="Candara"/>
              </a:rPr>
              <a:t>, </a:t>
            </a:r>
            <a:r>
              <a:rPr b="0" lang="sr-RS" sz="2000" spc="-1" strike="noStrike">
                <a:solidFill>
                  <a:srgbClr val="000000"/>
                </a:solidFill>
                <a:latin typeface="Candara"/>
              </a:rPr>
              <a:t>мегаколон</a:t>
            </a:r>
            <a:r>
              <a:rPr b="0" lang="vi-VN" sz="2000" spc="-1" strike="noStrike">
                <a:solidFill>
                  <a:srgbClr val="000000"/>
                </a:solidFill>
                <a:latin typeface="Candara"/>
              </a:rPr>
              <a:t>, </a:t>
            </a:r>
            <a:r>
              <a:rPr b="0" lang="sr-RS" sz="2000" spc="-1" strike="noStrike">
                <a:solidFill>
                  <a:srgbClr val="000000"/>
                </a:solidFill>
                <a:latin typeface="Candara"/>
              </a:rPr>
              <a:t>дуга</a:t>
            </a:r>
            <a:r>
              <a:rPr b="0" lang="sr-Latn-RS" sz="20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ndara"/>
              </a:rPr>
              <a:t>црева</a:t>
            </a:r>
            <a:r>
              <a:rPr b="0" lang="sr-Latn-RS" sz="2000" spc="-1" strike="noStrike">
                <a:solidFill>
                  <a:srgbClr val="000000"/>
                </a:solidFill>
                <a:latin typeface="Candara"/>
              </a:rPr>
              <a:t>, </a:t>
            </a:r>
            <a:r>
              <a:rPr b="0" lang="sr-RS" sz="2000" spc="-1" strike="noStrike">
                <a:solidFill>
                  <a:srgbClr val="000000"/>
                </a:solidFill>
                <a:latin typeface="Candara"/>
              </a:rPr>
              <a:t>хемороиди</a:t>
            </a:r>
            <a:r>
              <a:rPr b="0" lang="vi-VN" sz="2000" spc="-1" strike="noStrike">
                <a:solidFill>
                  <a:srgbClr val="000000"/>
                </a:solidFill>
                <a:latin typeface="Candara"/>
              </a:rPr>
              <a:t>, </a:t>
            </a:r>
            <a:r>
              <a:rPr b="0" lang="sr-RS" sz="2000" spc="-1" strike="noStrike">
                <a:solidFill>
                  <a:srgbClr val="000000"/>
                </a:solidFill>
                <a:latin typeface="Candara"/>
              </a:rPr>
              <a:t>тумори</a:t>
            </a:r>
            <a:r>
              <a:rPr b="0" lang="sr-Latn-RS" sz="2000" spc="-1" strike="noStrike">
                <a:solidFill>
                  <a:srgbClr val="000000"/>
                </a:solidFill>
                <a:latin typeface="Candar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325800" indent="-325800">
              <a:spcBef>
                <a:spcPts val="400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ndara"/>
              </a:rPr>
              <a:t>Поједине</a:t>
            </a: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ndara"/>
              </a:rPr>
              <a:t>болести</a:t>
            </a:r>
            <a:r>
              <a:rPr b="0" lang="sr-Latn-RS" sz="2000" spc="-1" strike="noStrike">
                <a:solidFill>
                  <a:srgbClr val="000000"/>
                </a:solidFill>
                <a:latin typeface="Candara"/>
              </a:rPr>
              <a:t>: </a:t>
            </a:r>
            <a:r>
              <a:rPr b="0" lang="sr-RS" sz="2000" spc="-1" strike="noStrike">
                <a:solidFill>
                  <a:srgbClr val="000000"/>
                </a:solidFill>
                <a:latin typeface="Candara"/>
              </a:rPr>
              <a:t>мултипла</a:t>
            </a: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ndara"/>
              </a:rPr>
              <a:t>склероза</a:t>
            </a:r>
            <a:r>
              <a:rPr b="0" lang="sr-Latn-RS" sz="2000" spc="-1" strike="noStrike">
                <a:solidFill>
                  <a:srgbClr val="000000"/>
                </a:solidFill>
                <a:latin typeface="Candara"/>
              </a:rPr>
              <a:t>, </a:t>
            </a:r>
            <a:r>
              <a:rPr b="0" lang="sr-RS" sz="2000" spc="-1" strike="noStrike">
                <a:solidFill>
                  <a:srgbClr val="000000"/>
                </a:solidFill>
                <a:latin typeface="Candara"/>
              </a:rPr>
              <a:t>Паркинсонова</a:t>
            </a: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ndara"/>
              </a:rPr>
              <a:t>болест</a:t>
            </a: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, </a:t>
            </a:r>
            <a:r>
              <a:rPr b="0" lang="sr-RS" sz="2000" spc="-1" strike="noStrike">
                <a:solidFill>
                  <a:srgbClr val="000000"/>
                </a:solidFill>
                <a:latin typeface="Candara"/>
              </a:rPr>
              <a:t>депресија</a:t>
            </a:r>
            <a:r>
              <a:rPr b="0" lang="sr-Latn-RS" sz="2000" spc="-1" strike="noStrike">
                <a:solidFill>
                  <a:srgbClr val="000000"/>
                </a:solidFill>
                <a:latin typeface="Candar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325800" indent="-325800">
              <a:spcBef>
                <a:spcPts val="400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ndara"/>
              </a:rPr>
              <a:t>Медикаменти</a:t>
            </a:r>
            <a:r>
              <a:rPr b="0" lang="sr-Latn-RS" sz="2200" spc="-1" strike="noStrike">
                <a:solidFill>
                  <a:srgbClr val="000000"/>
                </a:solidFill>
                <a:latin typeface="Candara"/>
              </a:rPr>
              <a:t>:</a:t>
            </a:r>
            <a:r>
              <a:rPr b="1" lang="sr-Latn-RS" sz="22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ndara"/>
              </a:rPr>
              <a:t>аналгетици</a:t>
            </a:r>
            <a:r>
              <a:rPr b="0" lang="sr-Latn-RS" sz="2200" spc="-1" strike="noStrike">
                <a:solidFill>
                  <a:srgbClr val="000000"/>
                </a:solidFill>
                <a:latin typeface="Candara"/>
              </a:rPr>
              <a:t>, </a:t>
            </a:r>
            <a:r>
              <a:rPr b="0" lang="sr-RS" sz="2200" spc="-1" strike="noStrike">
                <a:solidFill>
                  <a:srgbClr val="000000"/>
                </a:solidFill>
                <a:latin typeface="Candara"/>
              </a:rPr>
              <a:t>антациди</a:t>
            </a:r>
            <a:r>
              <a:rPr b="0" lang="en-US" sz="22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ndara"/>
              </a:rPr>
              <a:t>са</a:t>
            </a:r>
            <a:r>
              <a:rPr b="0" lang="en-US" sz="22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ndara"/>
              </a:rPr>
              <a:t>алуминијумом</a:t>
            </a:r>
            <a:r>
              <a:rPr b="0" lang="sr-Latn-RS" sz="2200" spc="-1" strike="noStrike">
                <a:solidFill>
                  <a:srgbClr val="000000"/>
                </a:solidFill>
                <a:latin typeface="Candara"/>
              </a:rPr>
              <a:t>...</a:t>
            </a:r>
            <a:r>
              <a:rPr b="0" lang="en-US" sz="2200" spc="-1" strike="noStrike">
                <a:solidFill>
                  <a:srgbClr val="000000"/>
                </a:solidFill>
                <a:latin typeface="Candar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marL="325800" indent="-325800">
              <a:spcBef>
                <a:spcPts val="400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ndara"/>
              </a:rPr>
              <a:t>Терапијски</a:t>
            </a:r>
            <a:r>
              <a:rPr b="0" lang="sr-Latn-RS" sz="22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ndara"/>
              </a:rPr>
              <a:t>аспекти</a:t>
            </a:r>
            <a:r>
              <a:rPr b="0" lang="sr-Latn-RS" sz="2200" spc="-1" strike="noStrike">
                <a:solidFill>
                  <a:srgbClr val="000000"/>
                </a:solidFill>
                <a:latin typeface="Candara"/>
              </a:rPr>
              <a:t>: </a:t>
            </a:r>
            <a:r>
              <a:rPr b="0" lang="sr-RS" sz="2200" spc="-1" strike="noStrike">
                <a:solidFill>
                  <a:srgbClr val="000000"/>
                </a:solidFill>
                <a:latin typeface="Candara"/>
              </a:rPr>
              <a:t>едукација болесника о правилној исхрани и навикама</a:t>
            </a:r>
            <a:r>
              <a:rPr b="0" lang="sr-Latn-RS" sz="2200" spc="-1" strike="noStrike">
                <a:solidFill>
                  <a:srgbClr val="000000"/>
                </a:solidFill>
                <a:latin typeface="Candara"/>
              </a:rPr>
              <a:t>, </a:t>
            </a:r>
            <a:r>
              <a:rPr b="0" lang="sr-RS" sz="2200" spc="-1" strike="noStrike">
                <a:solidFill>
                  <a:srgbClr val="000000"/>
                </a:solidFill>
                <a:latin typeface="Candara"/>
              </a:rPr>
              <a:t>примена</a:t>
            </a:r>
            <a:r>
              <a:rPr b="0" lang="sr-Latn-RS" sz="22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ndara"/>
              </a:rPr>
              <a:t>лаксанса 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1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ndara"/>
              </a:rPr>
              <a:t>Класификација лаксанса</a:t>
            </a:r>
            <a:endParaRPr b="1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Лаксанси који повећавају волумен цревног садржаја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Осмотски лаксанси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Лаксанси који делују надражајно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Лаксанси који омекшавају столицу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ndara"/>
              </a:rPr>
              <a:t>Остали лаксанси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259920"/>
            <a:ext cx="8218440" cy="10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ndara"/>
              </a:rPr>
              <a:t>Лаксанси који повећавају волумен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Candara"/>
              </a:rPr>
              <a:t>цревног садржаја </a:t>
            </a:r>
            <a:endParaRPr b="1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95280" y="1628280"/>
            <a:ext cx="83534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ndara"/>
              </a:rPr>
              <a:t>Примарна препорука: употреба течности и хране са доста несварљивих остатака (целулоза, пектин и лигнин) која везује воду. 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lvl="1" marL="722160" indent="-377640"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ndara"/>
              </a:rPr>
              <a:t>Повећање волумена цревног садржаја растеже зид црева и изазива дефекацију.  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ndara"/>
              </a:rPr>
              <a:t>Препарати целулозе, пшеничне мекиње...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ndara"/>
              </a:rPr>
              <a:t>Регулисање столице: 4-5 дана од почетка примене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ndara"/>
              </a:rPr>
              <a:t>Безбедан облик терапије опстипације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821844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ndara"/>
              </a:rPr>
              <a:t>Осмотски лаксанси</a:t>
            </a:r>
            <a:endParaRPr b="1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95280" y="1557000"/>
            <a:ext cx="8353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ndara"/>
              </a:rPr>
              <a:t>Не апсорбују се након оралног уношења, повећавају осмоларитет цревног садржаја и изазивају прелазак воде из зида црева у лумен. </a:t>
            </a:r>
            <a:endParaRPr b="0" lang="en-US" sz="19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ndara"/>
              </a:rPr>
              <a:t>Повећање количине танко-цревног садржаја...прелазак волуминозног садржаја и растезање зида колона...успостављање рефлекса дефекације. </a:t>
            </a:r>
            <a:endParaRPr b="0" lang="en-US" sz="19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ndara"/>
              </a:rPr>
              <a:t>Горка со (МgSО4), Мg цитрат, Мg хидроксид, лактулоза, сорбитол, манитол, слабо ресорптивне органске киселинe (лимунска, винска и јабучна). </a:t>
            </a:r>
            <a:endParaRPr b="0" lang="en-US" sz="19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ndara"/>
              </a:rPr>
              <a:t>Најчешће индикације: припрема црева за контрастне рендгенске студије (иригографију, цекографију), колоноскопију, спречавање апсорпције отрова након тровања... </a:t>
            </a:r>
            <a:endParaRPr b="0" lang="en-US" sz="19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ndara"/>
              </a:rPr>
              <a:t>Нису погодни код “обичне” опстипације </a:t>
            </a:r>
            <a:r>
              <a:rPr b="0" i="1" lang="en-US" sz="1900" spc="-1" strike="noStrike">
                <a:solidFill>
                  <a:srgbClr val="000000"/>
                </a:solidFill>
                <a:latin typeface="Candara"/>
              </a:rPr>
              <a:t>(изазивају нелагодност, грчеве и пражњење готово целог дигестивног тракта)</a:t>
            </a:r>
            <a:r>
              <a:rPr b="0" lang="en-US" sz="1900" spc="-1" strike="noStrike">
                <a:solidFill>
                  <a:srgbClr val="000000"/>
                </a:solidFill>
                <a:latin typeface="Candara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ndara"/>
              </a:rPr>
              <a:t>Лактулоза: терапија и превенција хепатичке коме код болесника са тешком цирозом и крварењима у дигестивном тракту.</a:t>
            </a:r>
            <a:endParaRPr b="0" lang="en-US" sz="19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1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ndara"/>
              </a:rPr>
              <a:t>Изоосмотски раствори за испирање дебелог црева </a:t>
            </a:r>
            <a:endParaRPr b="1" lang="en-US" sz="2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46040" y="162828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ndara"/>
              </a:rPr>
              <a:t>Садрже полиетилен гликол, натријум сулфат, натријум хлорид, натријум бикарбонат и калијум хлорид </a:t>
            </a:r>
            <a:endParaRPr b="0" lang="en-US" sz="21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ndara"/>
              </a:rPr>
              <a:t>Пацијент мора да попије 4 литра таквог раствора за 2-4 часа </a:t>
            </a:r>
            <a:endParaRPr b="0" lang="en-US" sz="21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ndara"/>
              </a:rPr>
              <a:t>Не апсорбују се у значајној мери</a:t>
            </a:r>
            <a:endParaRPr b="0" lang="en-US" sz="21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ndara"/>
              </a:rPr>
              <a:t>Ефикасан начин за припрему дебелог црева за операцију</a:t>
            </a:r>
            <a:endParaRPr b="0" lang="en-US" sz="21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54936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ndara"/>
              </a:rPr>
              <a:t>Лаксанси који делују надражајно</a:t>
            </a:r>
            <a:endParaRPr b="1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95280" y="1483920"/>
            <a:ext cx="83534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ndara"/>
              </a:rPr>
              <a:t>Антрахинони (гликозиди сене, каскаре, алоје) - након оралног уношења и апсорпције активирају неуроне зида колона и тако убрзају пропулзивни мотилитет. 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lvl="1" marL="625320" indent="-280800">
              <a:spcBef>
                <a:spcPts val="4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ndara"/>
              </a:rPr>
              <a:t>Време почетка дејства: око 8 часова након уношења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ndara"/>
              </a:rPr>
              <a:t>Слично делује бисакодил (орална или ректална примена)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1800" spc="-1" strike="noStrike">
                <a:solidFill>
                  <a:srgbClr val="000000"/>
                </a:solidFill>
                <a:latin typeface="Candara"/>
              </a:rPr>
              <a:t>Примена фенолфталеина се у данашње време избегава (канцерогеност)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ndara"/>
              </a:rPr>
              <a:t>Рицинусово уље - у танком цреву, под дејством липазе, ослобађа рицинолску киселину, </a:t>
            </a:r>
            <a:r>
              <a:rPr b="0" i="1" lang="sr-RS" sz="1800" spc="-1" strike="noStrike">
                <a:solidFill>
                  <a:srgbClr val="000000"/>
                </a:solidFill>
                <a:latin typeface="Candara"/>
              </a:rPr>
              <a:t>која делује надражајно на неуроне у зиду танког и дебелог црева</a:t>
            </a:r>
            <a:r>
              <a:rPr b="0" lang="sr-RS" sz="1800" spc="-1" strike="noStrike">
                <a:solidFill>
                  <a:srgbClr val="000000"/>
                </a:solidFill>
                <a:latin typeface="Candar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 lvl="1" marL="625320" indent="-280800">
              <a:spcBef>
                <a:spcPts val="4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ndara"/>
              </a:rPr>
              <a:t>Брзо дејство, након 2-3 часа од уношења; због јаких грчева и “чупања” у трбуху слабије се користи. 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ndara"/>
              </a:rPr>
              <a:t>Препорука: Надражајне лаксативе треба користити повремено и краткотрајно </a:t>
            </a:r>
            <a:r>
              <a:rPr b="0" i="1" lang="sr-RS" sz="1800" spc="-1" strike="noStrike">
                <a:solidFill>
                  <a:srgbClr val="000000"/>
                </a:solidFill>
                <a:latin typeface="Candara"/>
              </a:rPr>
              <a:t>(код хроничне примене долази до оштећења неурона у зиду црева и погоршања опстипације)</a:t>
            </a:r>
            <a:r>
              <a:rPr b="0" lang="sr-RS" sz="1800" spc="-1" strike="noStrike">
                <a:solidFill>
                  <a:srgbClr val="000000"/>
                </a:solidFill>
                <a:latin typeface="Candar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821844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ndara"/>
              </a:rPr>
              <a:t>Лаксанси који омекшавају столицу</a:t>
            </a:r>
            <a:endParaRPr b="1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95280" y="1557360"/>
            <a:ext cx="842472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Олакшавају дефекацију разводњавањем и омекшавањем фецеса.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Парафинскo уље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lvl="1" marL="692280" indent="-347760">
              <a:spcBef>
                <a:spcPts val="4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ndara"/>
              </a:rPr>
              <a:t>Напомена: Хроничну примену треба избегавати јер његове капљице могу продрети у зид црева и блокирати лимфне путеве.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 lvl="1" marL="692280" indent="-347760">
              <a:spcBef>
                <a:spcPts val="4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ndara"/>
              </a:rPr>
              <a:t>Канцерогеност?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Детерџенти (површински активне материје) диоктил калцијум сулфосукцинат, диоктил калијум сулфосукцинат и докусат диоктил натријум сулфосукцинат. 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lvl="1" marL="692280" indent="-347760">
              <a:spcBef>
                <a:spcPts val="4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ndara"/>
              </a:rPr>
              <a:t>Смањују површински напон воде и омогућавају натапање и размекшавање садржаја колона. 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 lvl="1" marL="692280" indent="-347760">
              <a:spcBef>
                <a:spcPts val="4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ndara"/>
              </a:rPr>
              <a:t>Делују након 1-2 дана; препорука - ректалнa примена (орална примена: потенцијално токсични ефекат на јетру). 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Поједине индикације: болна анална фисура, тромбозиран спољашњи хемороид или перинеални апсцес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1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000" spc="-1" strike="noStrike">
                <a:solidFill>
                  <a:srgbClr val="000000"/>
                </a:solidFill>
                <a:latin typeface="Candara"/>
              </a:rPr>
              <a:t>Остали лаксанси</a:t>
            </a:r>
            <a:endParaRPr b="1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74400" y="1483920"/>
            <a:ext cx="844524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ndara"/>
              </a:rPr>
              <a:t>Глицерол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lvl="1" marL="685080" indent="-344160">
              <a:spcBef>
                <a:spcPts val="4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ndara"/>
              </a:rPr>
              <a:t>Надражајни, осмотски, омекшивач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 lvl="1" marL="685080" indent="-344160">
              <a:spcBef>
                <a:spcPts val="4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ndara"/>
              </a:rPr>
              <a:t>Користи се ректално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 lvl="1" marL="685080" indent="-344160">
              <a:spcBef>
                <a:spcPts val="4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ndara"/>
              </a:rPr>
              <a:t>Погодан за “опоравак”</a:t>
            </a:r>
            <a:r>
              <a:rPr b="0" lang="vi-VN" sz="18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ndara"/>
              </a:rPr>
              <a:t>цревне</a:t>
            </a:r>
            <a:r>
              <a:rPr b="0" lang="vi-VN" sz="18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ndara"/>
              </a:rPr>
              <a:t>функције</a:t>
            </a:r>
            <a:r>
              <a:rPr b="0" lang="vi-VN" sz="18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ndara"/>
              </a:rPr>
              <a:t>након</a:t>
            </a:r>
            <a:r>
              <a:rPr b="0" lang="vi-VN" sz="18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ndara"/>
              </a:rPr>
              <a:t>периода</a:t>
            </a:r>
            <a:r>
              <a:rPr b="0" lang="vi-VN" sz="18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ndara"/>
              </a:rPr>
              <a:t>лоше</a:t>
            </a:r>
            <a:r>
              <a:rPr b="0" lang="vi-VN" sz="18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ndara"/>
              </a:rPr>
              <a:t>исхране</a:t>
            </a:r>
            <a:r>
              <a:rPr b="0" lang="vi-VN" sz="1800" spc="-1" strike="noStrike">
                <a:solidFill>
                  <a:srgbClr val="000000"/>
                </a:solidFill>
                <a:latin typeface="Candara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Candara"/>
              </a:rPr>
              <a:t>у</a:t>
            </a:r>
            <a:r>
              <a:rPr b="0" lang="vi-VN" sz="18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ndara"/>
              </a:rPr>
              <a:t>припреми</a:t>
            </a:r>
            <a:r>
              <a:rPr b="0" lang="vi-VN" sz="18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ndara"/>
              </a:rPr>
              <a:t>за</a:t>
            </a:r>
            <a:r>
              <a:rPr b="0" lang="vi-VN" sz="18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ndara"/>
              </a:rPr>
              <a:t>преглед</a:t>
            </a:r>
            <a:r>
              <a:rPr b="0" lang="vi-VN" sz="18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ndara"/>
              </a:rPr>
              <a:t>или</a:t>
            </a:r>
            <a:r>
              <a:rPr b="0" lang="vi-VN" sz="18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ndara"/>
              </a:rPr>
              <a:t>операцију</a:t>
            </a:r>
            <a:r>
              <a:rPr b="0" lang="vi-VN" sz="1800" spc="-1" strike="noStrike">
                <a:solidFill>
                  <a:srgbClr val="000000"/>
                </a:solidFill>
                <a:latin typeface="Candara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Candara"/>
              </a:rPr>
              <a:t>пре/након</a:t>
            </a:r>
            <a:r>
              <a:rPr b="0" lang="vi-VN" sz="18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ndara"/>
              </a:rPr>
              <a:t>порођаја, код медикаментима узрокованих констипација (</a:t>
            </a:r>
            <a:r>
              <a:rPr b="0" i="1" lang="en-US" sz="1800" spc="-1" strike="noStrike">
                <a:solidFill>
                  <a:srgbClr val="000000"/>
                </a:solidFill>
                <a:latin typeface="Candara"/>
              </a:rPr>
              <a:t>наркоаналгетици, антидепресиви, блокатори калцијумових канала, антиконвулзиви...</a:t>
            </a:r>
            <a:r>
              <a:rPr b="0" lang="en-US" sz="1800" spc="-1" strike="noStrike">
                <a:solidFill>
                  <a:srgbClr val="000000"/>
                </a:solidFill>
                <a:latin typeface="Candara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 lvl="1" marL="685080" indent="-344160">
              <a:spcBef>
                <a:spcPts val="4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ndara"/>
              </a:rPr>
              <a:t>Нежељена дејства: нелагодност</a:t>
            </a:r>
            <a:r>
              <a:rPr b="0" lang="vi-VN" sz="18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ndara"/>
              </a:rPr>
              <a:t>у</a:t>
            </a:r>
            <a:r>
              <a:rPr b="0" lang="vi-VN" sz="18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ndara"/>
              </a:rPr>
              <a:t>трбуху</a:t>
            </a:r>
            <a:r>
              <a:rPr b="0" lang="vi-VN" sz="1800" spc="-1" strike="noStrike">
                <a:solidFill>
                  <a:srgbClr val="000000"/>
                </a:solidFill>
                <a:latin typeface="Candara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Candara"/>
              </a:rPr>
              <a:t>гасови,</a:t>
            </a:r>
            <a:r>
              <a:rPr b="0" lang="vi-VN" sz="18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ndara"/>
              </a:rPr>
              <a:t>грчеви, алергијске</a:t>
            </a:r>
            <a:r>
              <a:rPr b="0" lang="vi-VN" sz="18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ndara"/>
              </a:rPr>
              <a:t>реакције</a:t>
            </a:r>
            <a:r>
              <a:rPr b="0" lang="vi-VN" sz="1800" spc="-1" strike="noStrike">
                <a:solidFill>
                  <a:srgbClr val="000000"/>
                </a:solidFill>
                <a:latin typeface="Candar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ndara"/>
              </a:rPr>
              <a:t>Жучне соли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lvl="1" marL="685080" indent="-344160">
              <a:spcBef>
                <a:spcPts val="4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ndara"/>
              </a:rPr>
              <a:t>Дијареја као нежељено дејство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ndara"/>
              </a:rPr>
              <a:t>Клизма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lvl="1" marL="685080" indent="-344160">
              <a:spcBef>
                <a:spcPts val="4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ndara"/>
              </a:rPr>
              <a:t>Вода, сапуница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5T11:20:01Z</dcterms:created>
  <dc:creator>Marko</dc:creator>
  <dc:description/>
  <dc:language>en-US</dc:language>
  <cp:lastModifiedBy>User</cp:lastModifiedBy>
  <dcterms:modified xsi:type="dcterms:W3CDTF">2017-09-14T21:57:26Z</dcterms:modified>
  <cp:revision>819</cp:revision>
  <dc:subject>Klinicki farmakolog</dc:subject>
  <dc:title>Verzija za sajt fakulteta</dc:title>
</cp:coreProperties>
</file>